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017-259E-4173-AA72-C9C21CBE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67776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749-A4C4-4EB4-A8AC-5866F013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760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CCD-0B51-4FB8-A0AC-B9B6680A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36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788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36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788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260-33EC-48ED-B72D-22C3F3E6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EA39-E317-4E89-BFC2-8DC200CC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6707-0385-4378-BF88-A2E767BC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DD6F-DBD6-4E06-8F5A-17A0BD83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8D6D-A51F-4CA5-BBA7-6325336B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B96D-CC8F-453E-B574-DD4278E7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D49F-AA7A-46E1-8AFD-CAE53BFB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1B6D-39E6-47F4-B4C9-9427EE30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819-DADE-4C8E-9315-849BB8E9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760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5019-2EFC-44CB-95BD-09068E08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32F7-8647-43D6-8798-280A15AF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67776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775C-E34B-41C5-B2A6-FD5C64B1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760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C32B-763D-4B56-9358-CC2B33F2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236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88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236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88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D4AD-AF35-4015-8E62-83075523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5C3-5AFA-4B02-BE59-484FAD82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F34-F48F-4CF6-A3A5-CC740215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8D2-F715-4A45-8366-AA376D77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BC7-4267-4CA8-814A-CEC6C146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EFA-B00A-4524-9142-8E50925A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760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415-C860-47FE-82F3-30F131E5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1557-A6E9-46BD-97AC-4B5A6673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ottom_t2"/>
          <p:cNvPicPr/>
          <p:nvPr/>
        </p:nvPicPr>
        <p:blipFill>
          <a:blip r:embed="rId2"/>
          <a:stretch/>
        </p:blipFill>
        <p:spPr>
          <a:xfrm>
            <a:off x="0" y="0"/>
            <a:ext cx="4570560" cy="995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Sgiv1MediumCAPSnum"/>
              </a:rPr>
              <a:t>Click to edit the title text format</a:t>
            </a: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Click to edit the outline text format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1" marL="743040" indent="-285840">
              <a:spcBef>
                <a:spcPts val="201"/>
              </a:spcBef>
              <a:buClr>
                <a:srgbClr val="669900"/>
              </a:buClr>
              <a:buFont typeface="Sgiv1MediumCAPSn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econd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2" marL="1143000" indent="-228600">
              <a:spcBef>
                <a:spcPts val="201"/>
              </a:spcBef>
              <a:buClr>
                <a:srgbClr val="cc0099"/>
              </a:buClr>
              <a:buFont typeface="Sgiv1MediumCAPSn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Third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3" marL="1600200" indent="-228600">
              <a:spcBef>
                <a:spcPts val="201"/>
              </a:spcBef>
              <a:buClr>
                <a:srgbClr val="339966"/>
              </a:buClr>
              <a:buFont typeface="Sgiv1MediumCAPSn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Four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4" marL="2057400" indent="-228600">
              <a:spcBef>
                <a:spcPts val="201"/>
              </a:spcBef>
              <a:buClr>
                <a:srgbClr val="ff33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Fif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5" marL="2057400" indent="-228600">
              <a:spcBef>
                <a:spcPts val="201"/>
              </a:spcBef>
              <a:buClr>
                <a:srgbClr val="0000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ix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6" marL="2057400" indent="-228600">
              <a:spcBef>
                <a:spcPts val="201"/>
              </a:spcBef>
              <a:buClr>
                <a:srgbClr val="0000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even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1200" y="6019920"/>
            <a:ext cx="1904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5CB3-2C1B-4C5A-AD58-C190F37E9604}" type="slidenum">
              <a:rPr b="0" lang="en-US" sz="14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titleFinish3"/>
          <p:cNvPicPr/>
          <p:nvPr/>
        </p:nvPicPr>
        <p:blipFill>
          <a:blip r:embed="rId3"/>
          <a:stretch/>
        </p:blipFill>
        <p:spPr>
          <a:xfrm>
            <a:off x="0" y="5992920"/>
            <a:ext cx="9144000" cy="8665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FiatLuxM"/>
          <p:cNvPicPr/>
          <p:nvPr/>
        </p:nvPicPr>
        <p:blipFill>
          <a:blip r:embed="rId4"/>
          <a:stretch/>
        </p:blipFill>
        <p:spPr>
          <a:xfrm>
            <a:off x="7448400" y="6103800"/>
            <a:ext cx="160992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itleFinish2"/>
          <p:cNvPicPr/>
          <p:nvPr/>
        </p:nvPicPr>
        <p:blipFill>
          <a:blip r:embed="rId2"/>
          <a:stretch/>
        </p:blipFill>
        <p:spPr>
          <a:xfrm>
            <a:off x="3240" y="1440"/>
            <a:ext cx="9145440" cy="962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FiatLuxM"/>
          <p:cNvPicPr/>
          <p:nvPr/>
        </p:nvPicPr>
        <p:blipFill>
          <a:blip r:embed="rId3"/>
          <a:stretch/>
        </p:blipFill>
        <p:spPr>
          <a:xfrm>
            <a:off x="3724200" y="6018120"/>
            <a:ext cx="1609920" cy="482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Sgiv1MediumCAPSnum"/>
              </a:rPr>
              <a:t>Click to edit the title text format</a:t>
            </a: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Click to edit the outline text format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1" marL="743040" indent="-285840">
              <a:spcBef>
                <a:spcPts val="201"/>
              </a:spcBef>
              <a:buClr>
                <a:srgbClr val="669900"/>
              </a:buClr>
              <a:buFont typeface="Sgiv1MediumCAPSn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econd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2" marL="1143000" indent="-228600">
              <a:spcBef>
                <a:spcPts val="201"/>
              </a:spcBef>
              <a:buClr>
                <a:srgbClr val="cc0099"/>
              </a:buClr>
              <a:buFont typeface="Sgiv1MediumCAPSn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Third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3" marL="1600200" indent="-228600">
              <a:spcBef>
                <a:spcPts val="201"/>
              </a:spcBef>
              <a:buClr>
                <a:srgbClr val="339966"/>
              </a:buClr>
              <a:buFont typeface="Sgiv1MediumCAPSn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Four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4" marL="2057400" indent="-228600">
              <a:spcBef>
                <a:spcPts val="201"/>
              </a:spcBef>
              <a:buClr>
                <a:srgbClr val="ff33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Fif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5" marL="2057400" indent="-228600">
              <a:spcBef>
                <a:spcPts val="201"/>
              </a:spcBef>
              <a:buClr>
                <a:srgbClr val="0000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ix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6" marL="2057400" indent="-228600">
              <a:spcBef>
                <a:spcPts val="201"/>
              </a:spcBef>
              <a:buClr>
                <a:srgbClr val="0000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even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A583-B722-4C05-B344-D0C055E52C43}" type="slidenum">
              <a:rPr b="0" lang="en-US" sz="14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250920" y="1125360"/>
            <a:ext cx="2736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olFea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v5.0</a:t>
            </a:r>
            <a:endParaRPr b="1" lang="en-US" sz="24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0920" y="177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Sgiv1MediumCAPSnum"/>
              </a:rPr>
              <a:t>Python</a:t>
            </a:r>
            <a:r>
              <a:rPr b="1" lang="ja-JP" sz="2000" spc="-1" strike="noStrike">
                <a:solidFill>
                  <a:srgbClr val="0033cc"/>
                </a:solidFill>
                <a:latin typeface="Sgiv1MediumCAPSnum"/>
              </a:rPr>
              <a:t>スクリプトデモ</a:t>
            </a: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graphicFrame>
        <p:nvGraphicFramePr>
          <p:cNvPr id="89" name="MolFeatControl31"/>
          <p:cNvGraphicFramePr/>
          <p:nvPr/>
        </p:nvGraphicFramePr>
        <p:xfrm>
          <a:off x="3059280" y="1197000"/>
          <a:ext cx="576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MolFeatControl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197000"/>
                    <a:ext cx="5760720" cy="475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2:24:39Z</dcterms:created>
  <dc:creator>高瀬規男</dc:creator>
  <dc:description/>
  <dc:language>en-US</dc:language>
  <cp:lastModifiedBy>棚橋　航</cp:lastModifiedBy>
  <dcterms:modified xsi:type="dcterms:W3CDTF">2013-10-21T02:28:59Z</dcterms:modified>
  <cp:revision>29</cp:revision>
  <dc:subject/>
  <dc:title>スライド 1</dc:title>
</cp:coreProperties>
</file>