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18E-E709-4C12-978B-C54C6622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67776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547-CA45-40FB-A79A-D77AA222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760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64F-D030-4DEA-901A-CD5A8E06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36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788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36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788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281-0D5B-4F0E-9AFE-779E8620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CF63-498D-4875-9C9E-D36C3E38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FCC0-4FB7-469E-9F86-7D2C3BC8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3352-45C1-49C9-9962-1249442E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2B7C-3CE8-4586-93CD-12E522C3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9ED5-D9DA-4B9B-956B-6D02CCB5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0400-C51D-43DB-90FD-3962F8CE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5416-6DDA-4EB2-A884-3BA89DC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B33-941D-4E47-9D8D-2F802819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760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6526-3083-400A-B180-7862B18F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6191-65A9-4556-97CC-01A2F057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67776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C9F8-ED24-4F33-BE3F-89460CB9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760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F716-CE83-49F5-A412-426C5794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236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880" y="120024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236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880" y="3677760"/>
            <a:ext cx="2633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3C1A-2B2D-445E-9B24-06F92AFF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D20-4D65-4122-8480-1EEA3E60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5D3-E188-4D7D-BC8C-5CFA48F1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3DD-8A7F-4DC3-9F92-7119B8A2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682-4C9B-403D-BF06-7AB02258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403-589E-43CA-A291-3F48CA4A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7600" y="367776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C1F-C0C1-47EA-AC68-C44E65A7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200240"/>
            <a:ext cx="399096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677760"/>
            <a:ext cx="81788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00F-9FE2-4941-AC69-63F56708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ottom_t2"/>
          <p:cNvPicPr/>
          <p:nvPr/>
        </p:nvPicPr>
        <p:blipFill>
          <a:blip r:embed="rId2"/>
          <a:stretch/>
        </p:blipFill>
        <p:spPr>
          <a:xfrm>
            <a:off x="0" y="0"/>
            <a:ext cx="4570560" cy="995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Sgiv1MediumCAPSnum"/>
              </a:rPr>
              <a:t>Click to edit the title text format</a:t>
            </a: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Click to edit the outline text format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1" marL="743040" indent="-285840">
              <a:spcBef>
                <a:spcPts val="201"/>
              </a:spcBef>
              <a:buClr>
                <a:srgbClr val="669900"/>
              </a:buClr>
              <a:buFont typeface="Sgiv1MediumCAPSn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econd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2" marL="1143000" indent="-228600">
              <a:spcBef>
                <a:spcPts val="201"/>
              </a:spcBef>
              <a:buClr>
                <a:srgbClr val="cc0099"/>
              </a:buClr>
              <a:buFont typeface="Sgiv1MediumCAPSn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Third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3" marL="1600200" indent="-228600">
              <a:spcBef>
                <a:spcPts val="201"/>
              </a:spcBef>
              <a:buClr>
                <a:srgbClr val="339966"/>
              </a:buClr>
              <a:buFont typeface="Sgiv1MediumCAPSn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Four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4" marL="2057400" indent="-228600">
              <a:spcBef>
                <a:spcPts val="201"/>
              </a:spcBef>
              <a:buClr>
                <a:srgbClr val="ff33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Fif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5" marL="2057400" indent="-228600">
              <a:spcBef>
                <a:spcPts val="201"/>
              </a:spcBef>
              <a:buClr>
                <a:srgbClr val="0000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ix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6" marL="2057400" indent="-228600">
              <a:spcBef>
                <a:spcPts val="201"/>
              </a:spcBef>
              <a:buClr>
                <a:srgbClr val="0000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even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1200" y="6019920"/>
            <a:ext cx="1904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373C-261C-4E6E-B469-E42BD7DE9919}" type="slidenum">
              <a:rPr b="0" lang="en-US" sz="14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titleFinish3"/>
          <p:cNvPicPr/>
          <p:nvPr/>
        </p:nvPicPr>
        <p:blipFill>
          <a:blip r:embed="rId3"/>
          <a:stretch/>
        </p:blipFill>
        <p:spPr>
          <a:xfrm>
            <a:off x="0" y="5992920"/>
            <a:ext cx="9144000" cy="8665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FiatLuxM"/>
          <p:cNvPicPr/>
          <p:nvPr/>
        </p:nvPicPr>
        <p:blipFill>
          <a:blip r:embed="rId4"/>
          <a:stretch/>
        </p:blipFill>
        <p:spPr>
          <a:xfrm>
            <a:off x="7448400" y="6103800"/>
            <a:ext cx="160992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itleFinish2"/>
          <p:cNvPicPr/>
          <p:nvPr/>
        </p:nvPicPr>
        <p:blipFill>
          <a:blip r:embed="rId2"/>
          <a:stretch/>
        </p:blipFill>
        <p:spPr>
          <a:xfrm>
            <a:off x="3240" y="1440"/>
            <a:ext cx="9145440" cy="962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FiatLuxM"/>
          <p:cNvPicPr/>
          <p:nvPr/>
        </p:nvPicPr>
        <p:blipFill>
          <a:blip r:embed="rId3"/>
          <a:stretch/>
        </p:blipFill>
        <p:spPr>
          <a:xfrm>
            <a:off x="3724200" y="6018120"/>
            <a:ext cx="1609920" cy="482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Sgiv1MediumCAPSnum"/>
              </a:rPr>
              <a:t>Click to edit the title text format</a:t>
            </a:r>
            <a:endParaRPr b="1" lang="en-US" sz="4000" spc="-1" strike="noStrike">
              <a:solidFill>
                <a:srgbClr val="ff9933"/>
              </a:solidFill>
              <a:latin typeface="Sgiv1MediumCAPSn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2002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Click to edit the outline text format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1" marL="743040" indent="-285840">
              <a:spcBef>
                <a:spcPts val="201"/>
              </a:spcBef>
              <a:buClr>
                <a:srgbClr val="669900"/>
              </a:buClr>
              <a:buFont typeface="Sgiv1MediumCAPSn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econd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2" marL="1143000" indent="-228600">
              <a:spcBef>
                <a:spcPts val="201"/>
              </a:spcBef>
              <a:buClr>
                <a:srgbClr val="cc0099"/>
              </a:buClr>
              <a:buFont typeface="Sgiv1MediumCAPSn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Third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3" marL="1600200" indent="-228600">
              <a:spcBef>
                <a:spcPts val="201"/>
              </a:spcBef>
              <a:buClr>
                <a:srgbClr val="339966"/>
              </a:buClr>
              <a:buFont typeface="Sgiv1MediumCAPSn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Four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4" marL="2057400" indent="-228600">
              <a:spcBef>
                <a:spcPts val="201"/>
              </a:spcBef>
              <a:buClr>
                <a:srgbClr val="ff33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Fif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5" marL="2057400" indent="-228600">
              <a:spcBef>
                <a:spcPts val="201"/>
              </a:spcBef>
              <a:buClr>
                <a:srgbClr val="0000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ix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  <a:p>
            <a:pPr lvl="6" marL="2057400" indent="-228600">
              <a:spcBef>
                <a:spcPts val="201"/>
              </a:spcBef>
              <a:buClr>
                <a:srgbClr val="000000"/>
              </a:buClr>
              <a:buFont typeface="Sgiv1MediumCAPSn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Sgiv1MediumCAPSnum"/>
              </a:rPr>
              <a:t>Seventh Outline Level</a:t>
            </a:r>
            <a:endParaRPr b="1" lang="en-US" sz="32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1DEF-A175-467B-B5DD-472AB54AC34B}" type="slidenum">
              <a:rPr b="0" lang="en-US" sz="14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50920" y="1773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33cc"/>
                </a:solidFill>
                <a:latin typeface="Sgiv1MediumCAPSnum"/>
              </a:rPr>
              <a:t>表示形状の例　</a:t>
            </a:r>
            <a:r>
              <a:rPr b="1" lang="en-US" sz="2000" spc="-1" strike="noStrike">
                <a:solidFill>
                  <a:srgbClr val="0033cc"/>
                </a:solidFill>
                <a:latin typeface="Sgiv1MediumCAPSnum"/>
              </a:rPr>
              <a:t>-</a:t>
            </a:r>
            <a:r>
              <a:rPr b="1" lang="ja-JP" sz="2000" spc="-1" strike="noStrike">
                <a:solidFill>
                  <a:srgbClr val="0033cc"/>
                </a:solidFill>
                <a:latin typeface="Sgiv1MediumCAPSnum"/>
              </a:rPr>
              <a:t>　</a:t>
            </a:r>
            <a:r>
              <a:rPr b="1" lang="en-US" sz="2000" spc="-1" strike="noStrike">
                <a:solidFill>
                  <a:srgbClr val="0033cc"/>
                </a:solidFill>
                <a:latin typeface="Sgiv1MediumCAPSnum"/>
              </a:rPr>
              <a:t>1</a:t>
            </a: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4000" y="2276640"/>
            <a:ext cx="259236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ドット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ワイヤーフレーム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ボール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スティック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ボール・スティック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バックボーンスティック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リボンとワイヤーフレーム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水素結合の表示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サーフィス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5465880"/>
            <a:ext cx="2736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33cc"/>
                </a:solidFill>
                <a:latin typeface="Sgiv1MediumCAPSnum"/>
              </a:rPr>
              <a:t>以下のサンプルには、複数のシーンが登録されて</a:t>
            </a:r>
            <a:endParaRPr b="1" lang="en-US" sz="9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33cc"/>
                </a:solidFill>
                <a:latin typeface="Sgiv1MediumCAPSnum"/>
              </a:rPr>
              <a:t>います。</a:t>
            </a:r>
            <a:endParaRPr b="1" lang="en-US" sz="9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33cc"/>
                </a:solidFill>
                <a:latin typeface="Sgiv1MediumCAPSnum"/>
              </a:rPr>
              <a:t>シーンウィンドウからマウス右ボタンでポップアップ</a:t>
            </a:r>
            <a:endParaRPr b="1" lang="en-US" sz="9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33cc"/>
                </a:solidFill>
                <a:latin typeface="Sgiv1MediumCAPSnum"/>
              </a:rPr>
              <a:t>メニューを表示しシーンを切り替えができます。</a:t>
            </a:r>
            <a:endParaRPr b="1" lang="en-US" sz="9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0920" y="1125360"/>
            <a:ext cx="2736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olFea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v5.0</a:t>
            </a:r>
            <a:endParaRPr b="1" lang="en-US" sz="2400" spc="-1" strike="noStrike">
              <a:solidFill>
                <a:srgbClr val="0033cc"/>
              </a:solidFill>
              <a:latin typeface="Sgiv1MediumCAPSnum"/>
            </a:endParaRPr>
          </a:p>
        </p:txBody>
      </p:sp>
      <p:graphicFrame>
        <p:nvGraphicFramePr>
          <p:cNvPr id="91" name="MolFeatControl31"/>
          <p:cNvGraphicFramePr/>
          <p:nvPr/>
        </p:nvGraphicFramePr>
        <p:xfrm>
          <a:off x="3059280" y="1197000"/>
          <a:ext cx="576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MolFeatControl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197000"/>
                    <a:ext cx="5760720" cy="475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8"/>
          <p:cNvSpPr/>
          <p:nvPr/>
        </p:nvSpPr>
        <p:spPr>
          <a:xfrm>
            <a:off x="250920" y="1773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33cc"/>
                </a:solidFill>
                <a:latin typeface="Sgiv1MediumCAPSnum"/>
              </a:rPr>
              <a:t>表示形状の例　</a:t>
            </a:r>
            <a:r>
              <a:rPr b="1" lang="en-US" sz="2000" spc="-1" strike="noStrike">
                <a:solidFill>
                  <a:srgbClr val="0033cc"/>
                </a:solidFill>
                <a:latin typeface="Sgiv1MediumCAPSnum"/>
              </a:rPr>
              <a:t>-</a:t>
            </a:r>
            <a:r>
              <a:rPr b="1" lang="ja-JP" sz="2000" spc="-1" strike="noStrike">
                <a:solidFill>
                  <a:srgbClr val="0033cc"/>
                </a:solidFill>
                <a:latin typeface="Sgiv1MediumCAPSnum"/>
              </a:rPr>
              <a:t>　</a:t>
            </a:r>
            <a:r>
              <a:rPr b="1" lang="en-US" sz="2000" spc="-1" strike="noStrike">
                <a:solidFill>
                  <a:srgbClr val="0033cc"/>
                </a:solidFill>
                <a:latin typeface="Sgiv1MediumCAPSnum"/>
              </a:rPr>
              <a:t>2</a:t>
            </a: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52360" y="1127160"/>
            <a:ext cx="273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olFea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v5.0</a:t>
            </a:r>
            <a:endParaRPr b="1" lang="en-US" sz="2400" spc="-1" strike="noStrike">
              <a:solidFill>
                <a:srgbClr val="0033cc"/>
              </a:solidFill>
              <a:latin typeface="Sgiv1MediumCAPSnum"/>
            </a:endParaRPr>
          </a:p>
        </p:txBody>
      </p:sp>
      <p:graphicFrame>
        <p:nvGraphicFramePr>
          <p:cNvPr id="95" name="MolFeatControl31"/>
          <p:cNvGraphicFramePr/>
          <p:nvPr/>
        </p:nvGraphicFramePr>
        <p:xfrm>
          <a:off x="3059280" y="1197000"/>
          <a:ext cx="576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MolFeatControl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197000"/>
                    <a:ext cx="5760720" cy="475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8"/>
          <p:cNvSpPr/>
          <p:nvPr/>
        </p:nvSpPr>
        <p:spPr>
          <a:xfrm>
            <a:off x="250920" y="1773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33cc"/>
                </a:solidFill>
                <a:latin typeface="Sgiv1MediumCAPSnum"/>
              </a:rPr>
              <a:t>表示形状の例　</a:t>
            </a:r>
            <a:r>
              <a:rPr b="1" lang="en-US" sz="2000" spc="-1" strike="noStrike">
                <a:solidFill>
                  <a:srgbClr val="0033cc"/>
                </a:solidFill>
                <a:latin typeface="Sgiv1MediumCAPSnum"/>
              </a:rPr>
              <a:t>-</a:t>
            </a:r>
            <a:r>
              <a:rPr b="1" lang="ja-JP" sz="2000" spc="-1" strike="noStrike">
                <a:solidFill>
                  <a:srgbClr val="0033cc"/>
                </a:solidFill>
                <a:latin typeface="Sgiv1MediumCAPSnum"/>
              </a:rPr>
              <a:t>　</a:t>
            </a:r>
            <a:r>
              <a:rPr b="1" lang="en-US" sz="2000" spc="-1" strike="noStrike">
                <a:solidFill>
                  <a:srgbClr val="0033cc"/>
                </a:solidFill>
                <a:latin typeface="Sgiv1MediumCAPSnum"/>
              </a:rPr>
              <a:t>3</a:t>
            </a: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2360" y="1127160"/>
            <a:ext cx="273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olFea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v5.0</a:t>
            </a:r>
            <a:endParaRPr b="1" lang="en-US" sz="2400" spc="-1" strike="noStrike">
              <a:solidFill>
                <a:srgbClr val="0033cc"/>
              </a:solidFill>
              <a:latin typeface="Sgiv1MediumCAPSnum"/>
            </a:endParaRPr>
          </a:p>
        </p:txBody>
      </p:sp>
      <p:graphicFrame>
        <p:nvGraphicFramePr>
          <p:cNvPr id="99" name="MolFeatControl31"/>
          <p:cNvGraphicFramePr/>
          <p:nvPr/>
        </p:nvGraphicFramePr>
        <p:xfrm>
          <a:off x="3059280" y="1197000"/>
          <a:ext cx="576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MolFeatControl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197000"/>
                    <a:ext cx="5760720" cy="475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8"/>
          <p:cNvSpPr/>
          <p:nvPr/>
        </p:nvSpPr>
        <p:spPr>
          <a:xfrm>
            <a:off x="250920" y="1773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33cc"/>
                </a:solidFill>
                <a:latin typeface="Sgiv1MediumCAPSnum"/>
              </a:rPr>
              <a:t>表示形状の例　</a:t>
            </a:r>
            <a:r>
              <a:rPr b="1" lang="en-US" sz="2000" spc="-1" strike="noStrike">
                <a:solidFill>
                  <a:srgbClr val="0033cc"/>
                </a:solidFill>
                <a:latin typeface="Sgiv1MediumCAPSnum"/>
              </a:rPr>
              <a:t>-</a:t>
            </a:r>
            <a:r>
              <a:rPr b="1" lang="ja-JP" sz="2000" spc="-1" strike="noStrike">
                <a:solidFill>
                  <a:srgbClr val="0033cc"/>
                </a:solidFill>
                <a:latin typeface="Sgiv1MediumCAPSnum"/>
              </a:rPr>
              <a:t>　</a:t>
            </a:r>
            <a:r>
              <a:rPr b="1" lang="en-US" sz="2000" spc="-1" strike="noStrike">
                <a:solidFill>
                  <a:srgbClr val="0033cc"/>
                </a:solidFill>
                <a:latin typeface="Sgiv1MediumCAPSnum"/>
              </a:rPr>
              <a:t>4</a:t>
            </a: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52360" y="1127160"/>
            <a:ext cx="273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olFea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v5.0</a:t>
            </a:r>
            <a:endParaRPr b="1" lang="en-US" sz="2400" spc="-1" strike="noStrike">
              <a:solidFill>
                <a:srgbClr val="0033cc"/>
              </a:solidFill>
              <a:latin typeface="Sgiv1MediumCAPSnum"/>
            </a:endParaRPr>
          </a:p>
        </p:txBody>
      </p:sp>
      <p:graphicFrame>
        <p:nvGraphicFramePr>
          <p:cNvPr id="103" name="MolFeatControl31"/>
          <p:cNvGraphicFramePr/>
          <p:nvPr/>
        </p:nvGraphicFramePr>
        <p:xfrm>
          <a:off x="3059280" y="1197000"/>
          <a:ext cx="576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MolFeatControl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197000"/>
                    <a:ext cx="5760720" cy="475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8"/>
          <p:cNvSpPr/>
          <p:nvPr/>
        </p:nvSpPr>
        <p:spPr>
          <a:xfrm>
            <a:off x="250920" y="1773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33cc"/>
                </a:solidFill>
                <a:latin typeface="Sgiv1MediumCAPSnum"/>
              </a:rPr>
              <a:t>注釈の例</a:t>
            </a: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52360" y="1127160"/>
            <a:ext cx="273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olFea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v5.0</a:t>
            </a:r>
            <a:endParaRPr b="1" lang="en-US" sz="2400" spc="-1" strike="noStrike">
              <a:solidFill>
                <a:srgbClr val="0033cc"/>
              </a:solidFill>
              <a:latin typeface="Sgiv1MediumCAPSnum"/>
            </a:endParaRPr>
          </a:p>
        </p:txBody>
      </p:sp>
      <p:graphicFrame>
        <p:nvGraphicFramePr>
          <p:cNvPr id="107" name="MolFeatControl31"/>
          <p:cNvGraphicFramePr/>
          <p:nvPr/>
        </p:nvGraphicFramePr>
        <p:xfrm>
          <a:off x="3059280" y="1197000"/>
          <a:ext cx="576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MolFeatControl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197000"/>
                    <a:ext cx="5760720" cy="475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8"/>
          <p:cNvSpPr/>
          <p:nvPr/>
        </p:nvSpPr>
        <p:spPr>
          <a:xfrm>
            <a:off x="250920" y="1773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33cc"/>
                </a:solidFill>
                <a:latin typeface="Sgiv1MediumCAPSnum"/>
              </a:rPr>
              <a:t>表示効果の例</a:t>
            </a:r>
            <a:endParaRPr b="1" lang="en-US" sz="20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24000" y="2276640"/>
            <a:ext cx="25923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ライト色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スペキュラー色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大気効果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cc99"/>
                </a:solidFill>
                <a:latin typeface="Sgiv1MediumCAPSnum"/>
              </a:rPr>
              <a:t>背景色</a:t>
            </a:r>
            <a:endParaRPr b="1" lang="en-US" sz="14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52360" y="1127160"/>
            <a:ext cx="273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olFea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v5.0</a:t>
            </a:r>
            <a:endParaRPr b="1" lang="en-US" sz="2400" spc="-1" strike="noStrike">
              <a:solidFill>
                <a:srgbClr val="0033cc"/>
              </a:solidFill>
              <a:latin typeface="Sgiv1MediumCAPSnum"/>
            </a:endParaRPr>
          </a:p>
        </p:txBody>
      </p:sp>
      <p:graphicFrame>
        <p:nvGraphicFramePr>
          <p:cNvPr id="112" name="MolFeatControl31"/>
          <p:cNvGraphicFramePr/>
          <p:nvPr/>
        </p:nvGraphicFramePr>
        <p:xfrm>
          <a:off x="3059280" y="1197000"/>
          <a:ext cx="576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MolFeatControl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197000"/>
                    <a:ext cx="5760720" cy="475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0"/>
          <p:cNvSpPr/>
          <p:nvPr/>
        </p:nvSpPr>
        <p:spPr>
          <a:xfrm>
            <a:off x="250920" y="17733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33cc"/>
                </a:solidFill>
                <a:latin typeface="Sgiv1MediumCAPSnum"/>
              </a:rPr>
              <a:t>トラジェクトリアニメーション</a:t>
            </a:r>
            <a:endParaRPr b="1" lang="en-US" sz="1600" spc="-1" strike="noStrike">
              <a:solidFill>
                <a:srgbClr val="0033cc"/>
              </a:solidFill>
              <a:latin typeface="Sgiv1MediumCAPSnum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2360" y="1127160"/>
            <a:ext cx="273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olFeat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v5.0</a:t>
            </a:r>
            <a:endParaRPr b="1" lang="en-US" sz="2400" spc="-1" strike="noStrike">
              <a:solidFill>
                <a:srgbClr val="0033cc"/>
              </a:solidFill>
              <a:latin typeface="Sgiv1MediumCAPSnum"/>
            </a:endParaRPr>
          </a:p>
        </p:txBody>
      </p:sp>
      <p:graphicFrame>
        <p:nvGraphicFramePr>
          <p:cNvPr id="116" name="MolFeatControl31"/>
          <p:cNvGraphicFramePr/>
          <p:nvPr/>
        </p:nvGraphicFramePr>
        <p:xfrm>
          <a:off x="3059280" y="1197000"/>
          <a:ext cx="576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MolFeatControl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197000"/>
                    <a:ext cx="5760720" cy="475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2:24:39Z</dcterms:created>
  <dc:creator>高瀬規男</dc:creator>
  <dc:description/>
  <dc:language>en-US</dc:language>
  <cp:lastModifiedBy>hisatomi</cp:lastModifiedBy>
  <dcterms:modified xsi:type="dcterms:W3CDTF">2013-10-21T04:42:17Z</dcterms:modified>
  <cp:revision>26</cp:revision>
  <dc:subject/>
  <dc:title>スライド 1</dc:title>
</cp:coreProperties>
</file>